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9C6-831F-4C4A-8B1F-D949D0CB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2CA-66B5-4C48-8050-577BCC12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0A2-9F59-4E14-B650-A5F59473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1D3-AB05-444B-80C2-DA1F60C8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4908-DA95-421C-8E59-7EAD559F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6BF7-6CBF-4EE8-AF24-84C48FB5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D2BE-E7CD-4D66-8400-DA775C30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D8B5-2AC3-47DA-BB37-254BD8D7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D737-4B3A-43F4-8711-859DD4BA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FE4D-253D-4905-9146-BE014E0C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EA2A-EDA6-439A-95D8-A2206544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13E-A471-4E7B-8E21-27CE54D0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A313-2146-4FB9-AD0E-2F90C3FA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1B48-CA77-4EF8-95EA-1487224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F684-F28F-487B-BDE2-7A37022D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BE3A-60D3-4396-96A7-D2E60510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4564-E73A-4DC1-9C63-5218A10A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DA8-3B4F-4F51-92F9-E60596C3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D29-40C4-45D3-9E7D-A963205B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7DB-B3D1-4D13-9242-9DFF3533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976-0682-4B88-9299-B5AFF41C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4ED-09D6-4CD2-9422-43DAC470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671-5CCA-45EF-BD3B-A4E203A2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B8A-12F5-45A3-97E4-074F4DE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A39D-851A-4E60-9D74-6155EE758E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6696000" y="65818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«Математика» № 4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6"/>
          <p:cNvSpPr/>
          <p:nvPr/>
        </p:nvSpPr>
        <p:spPr>
          <a:xfrm>
            <a:off x="6696000" y="65818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«Математика» № 4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2772-69F7-4F40-932A-D337CA22A1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4857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6c0a"/>
                </a:solidFill>
                <a:latin typeface="Impact"/>
              </a:rPr>
              <a:t>ЗАДАЧА   </a:t>
            </a:r>
            <a:r>
              <a:rPr b="0" lang="ru-RU" sz="7200" spc="-1" strike="noStrike">
                <a:solidFill>
                  <a:srgbClr val="e46c0a"/>
                </a:solidFill>
                <a:latin typeface="Impact"/>
              </a:rPr>
              <a:t>С5</a:t>
            </a:r>
            <a:endParaRPr b="1" lang="en-US" sz="7200" spc="-1" strike="noStrike">
              <a:solidFill>
                <a:srgbClr val="e46c0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5877000"/>
            <a:ext cx="28922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Ю. Садовничий, </a:t>
            </a:r>
            <a:endParaRPr b="0" lang="en-US" sz="2400" spc="-1" strike="noStrike">
              <a:solidFill>
                <a:srgbClr val="604a7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г. Москва</a:t>
            </a:r>
            <a:endParaRPr b="0" lang="en-US" sz="2400" spc="-1" strike="noStrike">
              <a:solidFill>
                <a:srgbClr val="604a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Заголовок 1"/>
          <p:cNvSpPr/>
          <p:nvPr/>
        </p:nvSpPr>
        <p:spPr>
          <a:xfrm>
            <a:off x="250920" y="142920"/>
            <a:ext cx="86421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Найти все значения параметра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, при каждом из которых ровно одно решение неравенства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(1 – 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≤ 2 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удовлетворяет неравенств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5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≥ 0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2"/>
          <p:cNvGraphicFramePr/>
          <p:nvPr/>
        </p:nvGraphicFramePr>
        <p:xfrm>
          <a:off x="3797280" y="2031840"/>
          <a:ext cx="914400" cy="1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7280" y="203184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Рисунок 4" descr="e22.eps"/>
          <p:cNvPicPr/>
          <p:nvPr/>
        </p:nvPicPr>
        <p:blipFill>
          <a:blip r:embed="rId3"/>
          <a:stretch/>
        </p:blipFill>
        <p:spPr>
          <a:xfrm>
            <a:off x="928800" y="2109960"/>
            <a:ext cx="49878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250920" y="142920"/>
            <a:ext cx="8642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Найти все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, при каждом из которых любое решение неравенств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(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4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1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удовлетворяет неравенств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1) ≥ 0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797280" y="2031840"/>
          <a:ext cx="914400" cy="1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7280" y="203184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Рисунок 5" descr=""/>
          <p:cNvPicPr/>
          <p:nvPr/>
        </p:nvPicPr>
        <p:blipFill>
          <a:blip r:embed="rId3"/>
          <a:stretch/>
        </p:blipFill>
        <p:spPr>
          <a:xfrm>
            <a:off x="1020600" y="1989000"/>
            <a:ext cx="5135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1"/>
          <p:cNvSpPr/>
          <p:nvPr/>
        </p:nvSpPr>
        <p:spPr>
          <a:xfrm>
            <a:off x="250920" y="142920"/>
            <a:ext cx="86421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Найти все значения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, при каждом из которых функци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4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 – 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имеет более двух точек экстрем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6" descr="e22.eps"/>
          <p:cNvPicPr/>
          <p:nvPr/>
        </p:nvPicPr>
        <p:blipFill>
          <a:blip r:embed="rId1"/>
          <a:stretch/>
        </p:blipFill>
        <p:spPr>
          <a:xfrm>
            <a:off x="2519280" y="2546280"/>
            <a:ext cx="3267000" cy="3240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>
            <a:off x="1692360" y="261612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676520" y="261612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1714680" y="261936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e26.eps"/>
          <p:cNvPicPr/>
          <p:nvPr/>
        </p:nvPicPr>
        <p:blipFill>
          <a:blip r:embed="rId2"/>
          <a:stretch/>
        </p:blipFill>
        <p:spPr>
          <a:xfrm>
            <a:off x="2500200" y="2906640"/>
            <a:ext cx="3479760" cy="2879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1" descr="e27.eps"/>
          <p:cNvPicPr/>
          <p:nvPr/>
        </p:nvPicPr>
        <p:blipFill>
          <a:blip r:embed="rId3"/>
          <a:stretch/>
        </p:blipFill>
        <p:spPr>
          <a:xfrm>
            <a:off x="2419200" y="2943360"/>
            <a:ext cx="351000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Заголовок 1"/>
          <p:cNvSpPr/>
          <p:nvPr/>
        </p:nvSpPr>
        <p:spPr>
          <a:xfrm>
            <a:off x="250920" y="142920"/>
            <a:ext cx="86421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Найти все значения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, при каждом из которых любая прямая, перпендикулярная оси ординат, имеет нечетное число общих точек с графиком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= (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)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1589040" y="261612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1574640" y="261612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1571760" y="261936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1643040" y="264312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19" descr="e28.eps"/>
          <p:cNvPicPr/>
          <p:nvPr/>
        </p:nvPicPr>
        <p:blipFill>
          <a:blip r:embed="rId1"/>
          <a:stretch/>
        </p:blipFill>
        <p:spPr>
          <a:xfrm>
            <a:off x="2470320" y="2500200"/>
            <a:ext cx="3477960" cy="3240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0" descr="e29.eps"/>
          <p:cNvPicPr/>
          <p:nvPr/>
        </p:nvPicPr>
        <p:blipFill>
          <a:blip r:embed="rId2"/>
          <a:stretch/>
        </p:blipFill>
        <p:spPr>
          <a:xfrm>
            <a:off x="2502000" y="2546280"/>
            <a:ext cx="3325680" cy="3240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1" descr="e30.eps"/>
          <p:cNvPicPr/>
          <p:nvPr/>
        </p:nvPicPr>
        <p:blipFill>
          <a:blip r:embed="rId3"/>
          <a:stretch/>
        </p:blipFill>
        <p:spPr>
          <a:xfrm>
            <a:off x="2435400" y="2546280"/>
            <a:ext cx="3106440" cy="3240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2" descr="e31.eps"/>
          <p:cNvPicPr/>
          <p:nvPr/>
        </p:nvPicPr>
        <p:blipFill>
          <a:blip r:embed="rId4"/>
          <a:stretch/>
        </p:blipFill>
        <p:spPr>
          <a:xfrm>
            <a:off x="2470320" y="2546280"/>
            <a:ext cx="2960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Заголовок 1"/>
          <p:cNvSpPr/>
          <p:nvPr/>
        </p:nvSpPr>
        <p:spPr>
          <a:xfrm>
            <a:off x="250920" y="142920"/>
            <a:ext cx="8642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Найти все значения параметра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, при каждом из которых наименьшее значение функции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= –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5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 – 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на отрезке [–6; 3] принимается хотя бы на одном из концов этого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1692360" y="31878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676520" y="31878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676520" y="316548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1698480" y="31654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676520" y="31878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8" descr="e32.eps"/>
          <p:cNvPicPr/>
          <p:nvPr/>
        </p:nvPicPr>
        <p:blipFill>
          <a:blip r:embed="rId1"/>
          <a:stretch/>
        </p:blipFill>
        <p:spPr>
          <a:xfrm>
            <a:off x="2579760" y="3232080"/>
            <a:ext cx="3600360" cy="21938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9" descr="e33.eps"/>
          <p:cNvPicPr/>
          <p:nvPr/>
        </p:nvPicPr>
        <p:blipFill>
          <a:blip r:embed="rId2"/>
          <a:stretch/>
        </p:blipFill>
        <p:spPr>
          <a:xfrm>
            <a:off x="2571840" y="3232080"/>
            <a:ext cx="3600360" cy="23209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0" descr="e34.eps"/>
          <p:cNvPicPr/>
          <p:nvPr/>
        </p:nvPicPr>
        <p:blipFill>
          <a:blip r:embed="rId3"/>
          <a:stretch/>
        </p:blipFill>
        <p:spPr>
          <a:xfrm>
            <a:off x="2517840" y="3232080"/>
            <a:ext cx="3600360" cy="20908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e35.eps"/>
          <p:cNvPicPr/>
          <p:nvPr/>
        </p:nvPicPr>
        <p:blipFill>
          <a:blip r:embed="rId4"/>
          <a:stretch/>
        </p:blipFill>
        <p:spPr>
          <a:xfrm>
            <a:off x="2532240" y="3232080"/>
            <a:ext cx="3600360" cy="22068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2" descr="e36.eps"/>
          <p:cNvPicPr/>
          <p:nvPr/>
        </p:nvPicPr>
        <p:blipFill>
          <a:blip r:embed="rId5"/>
          <a:stretch/>
        </p:blipFill>
        <p:spPr>
          <a:xfrm>
            <a:off x="2571840" y="3251160"/>
            <a:ext cx="3600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Заголовок 1"/>
          <p:cNvSpPr/>
          <p:nvPr/>
        </p:nvSpPr>
        <p:spPr>
          <a:xfrm>
            <a:off x="250920" y="0"/>
            <a:ext cx="86421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Найти все положительные значения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, при каждом из которых систем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имеет единственно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1"/>
          <p:cNvGraphicFramePr/>
          <p:nvPr/>
        </p:nvGraphicFramePr>
        <p:xfrm>
          <a:off x="2500200" y="785880"/>
          <a:ext cx="4125960" cy="14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785880"/>
                    <a:ext cx="412596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Рисунок 4" descr="e37.eps"/>
          <p:cNvPicPr/>
          <p:nvPr/>
        </p:nvPicPr>
        <p:blipFill>
          <a:blip r:embed="rId3"/>
          <a:stretch/>
        </p:blipFill>
        <p:spPr>
          <a:xfrm>
            <a:off x="714240" y="2643120"/>
            <a:ext cx="5535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Заголовок 1"/>
          <p:cNvSpPr/>
          <p:nvPr/>
        </p:nvSpPr>
        <p:spPr>
          <a:xfrm>
            <a:off x="250920" y="0"/>
            <a:ext cx="86421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Найти все значения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, при каждом из которых сис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имеет единственно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"/>
          <p:cNvGraphicFramePr/>
          <p:nvPr/>
        </p:nvGraphicFramePr>
        <p:xfrm>
          <a:off x="2571840" y="500040"/>
          <a:ext cx="417996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500040"/>
                    <a:ext cx="417996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Рисунок 4" descr="e38.eps"/>
          <p:cNvPicPr/>
          <p:nvPr/>
        </p:nvPicPr>
        <p:blipFill>
          <a:blip r:embed="rId3"/>
          <a:stretch/>
        </p:blipFill>
        <p:spPr>
          <a:xfrm>
            <a:off x="500040" y="2714760"/>
            <a:ext cx="61977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Заголовок 1"/>
          <p:cNvSpPr/>
          <p:nvPr/>
        </p:nvSpPr>
        <p:spPr>
          <a:xfrm>
            <a:off x="250920" y="0"/>
            <a:ext cx="86421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Найти все значения параметра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, при каждом из которых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имеет ровно два различных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"/>
          <p:cNvGraphicFramePr/>
          <p:nvPr/>
        </p:nvGraphicFramePr>
        <p:xfrm>
          <a:off x="1455840" y="919080"/>
          <a:ext cx="62593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919080"/>
                    <a:ext cx="62593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Рисунок 4" descr="e39.eps"/>
          <p:cNvPicPr/>
          <p:nvPr/>
        </p:nvPicPr>
        <p:blipFill>
          <a:blip r:embed="rId3"/>
          <a:stretch/>
        </p:blipFill>
        <p:spPr>
          <a:xfrm>
            <a:off x="1165320" y="2755800"/>
            <a:ext cx="45496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41120"/>
            <a:ext cx="8642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При каких значениях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уравнение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имеет единственное решение?</a:t>
            </a:r>
            <a:endParaRPr b="1" lang="en-US" sz="2800" spc="-1" strike="noStrike">
              <a:solidFill>
                <a:srgbClr val="e46c0a"/>
              </a:solidFill>
              <a:latin typeface="Arial"/>
            </a:endParaRPr>
          </a:p>
        </p:txBody>
      </p:sp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714240" y="2327400"/>
            <a:ext cx="5543640" cy="3959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8"/>
          <p:cNvGraphicFramePr/>
          <p:nvPr/>
        </p:nvGraphicFramePr>
        <p:xfrm>
          <a:off x="2627280" y="620640"/>
          <a:ext cx="3565440" cy="72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620640"/>
                    <a:ext cx="35654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1"/>
          <p:cNvSpPr/>
          <p:nvPr/>
        </p:nvSpPr>
        <p:spPr>
          <a:xfrm>
            <a:off x="250920" y="152280"/>
            <a:ext cx="864216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Найти все значения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при которых система 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имеет единственное реш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8"/>
          <p:cNvGraphicFramePr/>
          <p:nvPr/>
        </p:nvGraphicFramePr>
        <p:xfrm>
          <a:off x="2765520" y="633240"/>
          <a:ext cx="361296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5520" y="633240"/>
                    <a:ext cx="36129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Рисунок 4" descr=""/>
          <p:cNvPicPr/>
          <p:nvPr/>
        </p:nvPicPr>
        <p:blipFill>
          <a:blip r:embed="rId3"/>
          <a:stretch/>
        </p:blipFill>
        <p:spPr>
          <a:xfrm>
            <a:off x="932040" y="2470320"/>
            <a:ext cx="428292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Заголовок 1"/>
          <p:cNvSpPr/>
          <p:nvPr/>
        </p:nvSpPr>
        <p:spPr>
          <a:xfrm>
            <a:off x="250920" y="142920"/>
            <a:ext cx="864216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Найти все значения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, при которых уравн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12 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имеет единственно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785880" y="1928880"/>
            <a:ext cx="53258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1"/>
          <p:cNvSpPr/>
          <p:nvPr/>
        </p:nvSpPr>
        <p:spPr>
          <a:xfrm>
            <a:off x="250920" y="162000"/>
            <a:ext cx="864216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При каких значениях параметра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уравн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5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4) 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имеет ровно три различных кор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3954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1"/>
          <p:cNvSpPr/>
          <p:nvPr/>
        </p:nvSpPr>
        <p:spPr>
          <a:xfrm>
            <a:off x="250920" y="154080"/>
            <a:ext cx="864216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Для каждого значения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&gt; 0 найти уравнения всех прямых, проходящих через начало координат и имеющих ровно две общие точки с графиком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1666800" y="2109960"/>
            <a:ext cx="361944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250920" y="115920"/>
            <a:ext cx="864216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Найти все действительные значения параметра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, при каждом из которых уравне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имеет ровно одно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800280" y="1101600"/>
          <a:ext cx="758808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101600"/>
                    <a:ext cx="75880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Рисунок 5" descr=""/>
          <p:cNvPicPr/>
          <p:nvPr/>
        </p:nvPicPr>
        <p:blipFill>
          <a:blip r:embed="rId3"/>
          <a:stretch/>
        </p:blipFill>
        <p:spPr>
          <a:xfrm>
            <a:off x="1046160" y="2421000"/>
            <a:ext cx="48117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Заголовок 1"/>
          <p:cNvSpPr/>
          <p:nvPr/>
        </p:nvSpPr>
        <p:spPr>
          <a:xfrm>
            <a:off x="250920" y="150840"/>
            <a:ext cx="8642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При каких значениях параметра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система 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имеет единственное реш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1490760" y="633240"/>
          <a:ext cx="616248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633240"/>
                    <a:ext cx="61624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Рисунок 5" descr=""/>
          <p:cNvPicPr/>
          <p:nvPr/>
        </p:nvPicPr>
        <p:blipFill>
          <a:blip r:embed="rId3"/>
          <a:stretch/>
        </p:blipFill>
        <p:spPr>
          <a:xfrm>
            <a:off x="3200400" y="2832120"/>
            <a:ext cx="273996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1692360" y="261612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676520" y="261612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8" descr=""/>
          <p:cNvPicPr/>
          <p:nvPr/>
        </p:nvPicPr>
        <p:blipFill>
          <a:blip r:embed="rId4"/>
          <a:stretch/>
        </p:blipFill>
        <p:spPr>
          <a:xfrm>
            <a:off x="3220920" y="2760840"/>
            <a:ext cx="2719440" cy="324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9"/>
          <p:cNvSpPr/>
          <p:nvPr/>
        </p:nvSpPr>
        <p:spPr>
          <a:xfrm>
            <a:off x="1676520" y="25938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0" descr=""/>
          <p:cNvPicPr/>
          <p:nvPr/>
        </p:nvPicPr>
        <p:blipFill>
          <a:blip r:embed="rId5"/>
          <a:stretch/>
        </p:blipFill>
        <p:spPr>
          <a:xfrm>
            <a:off x="3203640" y="2832120"/>
            <a:ext cx="2739960" cy="3240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1"/>
          <p:cNvSpPr/>
          <p:nvPr/>
        </p:nvSpPr>
        <p:spPr>
          <a:xfrm>
            <a:off x="1698480" y="259380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12" descr=""/>
          <p:cNvPicPr/>
          <p:nvPr/>
        </p:nvPicPr>
        <p:blipFill>
          <a:blip r:embed="rId6"/>
          <a:stretch/>
        </p:blipFill>
        <p:spPr>
          <a:xfrm>
            <a:off x="3243240" y="2759040"/>
            <a:ext cx="2719440" cy="3240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3"/>
          <p:cNvSpPr/>
          <p:nvPr/>
        </p:nvSpPr>
        <p:spPr>
          <a:xfrm>
            <a:off x="1676520" y="261612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4" descr=""/>
          <p:cNvPicPr/>
          <p:nvPr/>
        </p:nvPicPr>
        <p:blipFill>
          <a:blip r:embed="rId7"/>
          <a:stretch/>
        </p:blipFill>
        <p:spPr>
          <a:xfrm>
            <a:off x="3174840" y="2759040"/>
            <a:ext cx="2787840" cy="3240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5"/>
          <p:cNvSpPr/>
          <p:nvPr/>
        </p:nvSpPr>
        <p:spPr>
          <a:xfrm>
            <a:off x="1670040" y="261612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6" descr=""/>
          <p:cNvPicPr/>
          <p:nvPr/>
        </p:nvPicPr>
        <p:blipFill>
          <a:blip r:embed="rId8"/>
          <a:stretch/>
        </p:blipFill>
        <p:spPr>
          <a:xfrm>
            <a:off x="3243240" y="2760840"/>
            <a:ext cx="27399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1"/>
          <p:cNvSpPr/>
          <p:nvPr/>
        </p:nvSpPr>
        <p:spPr>
          <a:xfrm>
            <a:off x="250920" y="0"/>
            <a:ext cx="86421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Найти все значения параметра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, при каждом из которых множество решений неравенст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) ≤ 0 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не содержит ни одной точки из отрезка </a:t>
            </a:r>
            <a:r>
              <a:rPr b="0" i="1" lang="en-US" sz="2800" spc="-1" strike="noStrike">
                <a:solidFill>
                  <a:srgbClr val="984807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∈</a:t>
            </a:r>
            <a:r>
              <a:rPr b="0" lang="en-US" sz="28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[–1; 1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797280" y="2031840"/>
          <a:ext cx="914400" cy="1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7280" y="203184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Рисунок 4" descr="e22.eps"/>
          <p:cNvPicPr/>
          <p:nvPr/>
        </p:nvPicPr>
        <p:blipFill>
          <a:blip r:embed="rId3"/>
          <a:stretch/>
        </p:blipFill>
        <p:spPr>
          <a:xfrm>
            <a:off x="571680" y="2071800"/>
            <a:ext cx="3286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0:59:55Z</dcterms:created>
  <dc:creator>olga.makarova</dc:creator>
  <dc:description/>
  <dc:language>en-US</dc:language>
  <cp:lastModifiedBy>olga.makarova</cp:lastModifiedBy>
  <dcterms:modified xsi:type="dcterms:W3CDTF">2012-03-13T11:00:47Z</dcterms:modified>
  <cp:revision>29</cp:revision>
  <dc:subject/>
  <dc:title>Заголовок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563</vt:lpwstr>
  </property>
</Properties>
</file>